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6D1-A18C-45D6-9D2F-D2CEE73F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0BC-0364-4327-8910-6003C229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65B-D135-4E8C-84A8-C640C152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7A4-2EFF-41C7-820F-4C7886BC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61B-C876-4B99-84A1-8713F05F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EE1-B225-4BB2-971C-01C23CED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5CB-FAC3-4D1B-8603-25DDF77C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96F-0F64-43B0-A7DA-D2BE8653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D19-65A5-4C0B-B2F4-5775F5C4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94E-D383-40FC-ADDE-ADEEF22C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102-98E9-4C7C-90B4-9E6B33EA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57D-4609-4596-8CF0-301E31F8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4A22-3C78-4B82-8FCD-946D8C02C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5080" y="3041640"/>
            <a:ext cx="845496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umber the stars   presentation     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y Fe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94560" y="1397160"/>
            <a:ext cx="235584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live in Copenhagen,Denmark in 1943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28680" y="2743200"/>
            <a:ext cx="87836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ain charact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nemarie-she is very brave.She knew that there was no great aunt birte.She took the packet to uncle Henric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len-she is a jew.On their new year she stayed the night with Annemarie.Her mom and dad went on a boat.Somewhere where it would be saf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03040" y="4092480"/>
            <a:ext cx="995076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inor charact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m-on the way back she broke her anc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cle Henrick-was a fisherman.He took the Rosens and other people to Sweed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ter-he was like Annemarie and Kirsti broth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30040" y="3684600"/>
            <a:ext cx="9410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o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live in Copenhagen , Denmark. Their Uncle Henrick want them to come down to where their mom lived. Great-aunt-birte had just di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36480" y="3249720"/>
            <a:ext cx="90280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max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eat-aunt-birte had died. Everybody gathered for her funeral. Mama took the Rosens and some other people to Uncle Henricks . Mr. Rosen had dropped the packet that was so important.Mama broke her ancle. Annemarie found the packet and took it to Uncle Henric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74520" y="3935520"/>
            <a:ext cx="1014912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all worked out fine. They got there safely. They got there without getting cought, They were more safe in the new place. Someday they will come back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27000" y="3427560"/>
            <a:ext cx="100839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theme is bravery. Annemarie is very brave. She stood up to the soldiers. She was in a very dangerious posi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905120" y="2924280"/>
            <a:ext cx="573696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Windows User</cp:lastModifiedBy>
  <dcterms:modified xsi:type="dcterms:W3CDTF">2011-02-09T16:18:49Z</dcterms:modified>
  <cp:revision>1</cp:revision>
  <dc:subject/>
  <dc:title>PowerPoint Presentation</dc:title>
</cp:coreProperties>
</file>